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6D0F-E960-4218-89EA-809F3561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BD65-794A-426A-9DF4-4B6561B5F8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B64-978E-4079-8A94-0D7C4E32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530-D89F-4A74-A751-F178C141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879-9F8F-4424-9099-0BDC6429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B85-844C-49D4-9037-B711F02B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403-9342-461E-98F3-85025A92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B26-EB79-496B-97ED-1CB4A32C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F92-B511-4C02-A634-BED91B3F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218-9506-436C-B4EF-77EC91A0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60A-A042-4C72-AE17-51325B86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569-8F9B-428E-BC48-43EF206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F62-9C8F-43F8-8E4E-CCD43799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6E2-D33E-4DA9-AEA1-31E8EC2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0BD3-F353-4779-B716-443AFD8F0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2/22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61955" t="24167" r="14142" b="62504"/>
          <a:stretch/>
        </p:blipFill>
        <p:spPr>
          <a:xfrm>
            <a:off x="990720" y="533520"/>
            <a:ext cx="7162560" cy="3182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2280" y="390528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hemical equations is a representation of a chemical reaction using numbers and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ants are what you have at the start of a reaction (on left side of equ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 are what you have at the end of a reaction (on right side of equ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14142" t="25004" r="61955" b="56672"/>
          <a:stretch/>
        </p:blipFill>
        <p:spPr>
          <a:xfrm>
            <a:off x="1219320" y="76320"/>
            <a:ext cx="6629400" cy="405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413388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igns of a chemical reaction tell you that a reaction MAY have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change includes a change in temperature or light being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know for sure that a chemical reaction has taken place is if a new substance is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reactants for the equation below?</a:t>
            </a:r>
            <a:br>
              <a:rPr sz="40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e + CuS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Cu + FeS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508640" y="2514600"/>
          <a:ext cx="457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14600"/>
                    <a:ext cx="457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33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and Copper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per and Iron Sulf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 and Co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960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per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198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ron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320" y="1219320"/>
            <a:ext cx="899136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Key Question 12   Exit Slip Che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air and Share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0" b="27786"/>
          <a:stretch/>
        </p:blipFill>
        <p:spPr>
          <a:xfrm>
            <a:off x="1828800" y="487692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0" r="0" b="30555"/>
          <a:stretch/>
        </p:blipFill>
        <p:spPr>
          <a:xfrm>
            <a:off x="45720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609480"/>
            <a:ext cx="899136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QUESTION 11: What is the periodic table and how is it organized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 the 4 things in every box on the periodic table and what they tell you about the particles that make up an atom of that el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atomic number for boron is _____.  The atomic mass is 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n has _____ protons, _____ neutrons, and _____ electr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how the periodic table is organ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ments are in order by ____________________ ___________________ on the periodic 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 groups and periods and explain what elements in the same group and period have in comm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cal columns are called ____________________ or ____________________ and contain elements with similar ____________________ 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izontal rows are called ____________________ and contain elements with the same number of 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____________________ ____________________ in group 1 are the most reactive met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____________________ ____________________ ____________________ in group 2 are also very reactive met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ransition metals in groups 3-12 are ____________________ reactive met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____________________ in group 17 are very reactive non-met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noble gases in group 18 are ____________________ and 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558800"/>
            <a:ext cx="1447920" cy="1447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1622520"/>
            <a:ext cx="12952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16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2071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20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071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909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6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3672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40100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em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4241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5561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Sh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800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kali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1195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kaline Earth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546084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6008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l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6338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02400" y="63262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re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1614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320" y="573120"/>
            <a:ext cx="8991360" cy="51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QUESTION 12: What is a chemical reac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what happens to molecules in a chemical chan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number of atoms before and after a chemical change ________________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ch of the following shows a correct equation for a chemical rea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ain and define chemical equations, reactants, and produc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cle the reactants and put a box around the products in the following chemical eq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, describe, and give examples of the 5 signs of a chemical chan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te the table below showing the 5 signs of a chemical change and give an example for ea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80880" y="2247840"/>
            <a:ext cx="3670200" cy="457200"/>
            <a:chOff x="380880" y="2247840"/>
            <a:chExt cx="3670200" cy="457200"/>
          </a:xfrm>
        </p:grpSpPr>
        <p:sp>
          <p:nvSpPr>
            <p:cNvPr id="80" name=""/>
            <p:cNvSpPr/>
            <p:nvPr/>
          </p:nvSpPr>
          <p:spPr>
            <a:xfrm>
              <a:off x="38088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176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1300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70200" y="22478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160" y="2323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7560" y="24764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4760" y="23238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5640" y="24382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46680" y="2097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91320" y="2019240"/>
            <a:ext cx="3047760" cy="764280"/>
            <a:chOff x="5791320" y="2019240"/>
            <a:chExt cx="3047760" cy="764280"/>
          </a:xfrm>
        </p:grpSpPr>
        <p:sp>
          <p:nvSpPr>
            <p:cNvPr id="90" name=""/>
            <p:cNvSpPr/>
            <p:nvPr/>
          </p:nvSpPr>
          <p:spPr>
            <a:xfrm>
              <a:off x="8003160" y="201924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791320" y="2222640"/>
              <a:ext cx="3047760" cy="380880"/>
              <a:chOff x="5791320" y="2222640"/>
              <a:chExt cx="304776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5791320" y="22226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543800" y="22226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59600" y="22986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53080" y="2413080"/>
                <a:ext cx="762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10480" y="22986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4407120" y="207000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8280" y="3429000"/>
            <a:ext cx="6609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                  2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83544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4952880"/>
          <a:ext cx="8381880" cy="1819440"/>
        </p:xfrm>
        <a:graphic>
          <a:graphicData uri="http://schemas.openxmlformats.org/drawingml/2006/table">
            <a:tbl>
              <a:tblPr/>
              <a:tblGrid>
                <a:gridCol w="4191120"/>
                <a:gridCol w="4190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Indicating Chemical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562720" y="123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main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2038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(temperature &amp;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5119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58165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1182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64263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id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57400"/>
            <a:ext cx="36576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429000"/>
            <a:ext cx="198144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3429000"/>
            <a:ext cx="274320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200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tHands or Glow St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508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sting, Heating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8132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tting Milk or Burning C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61149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lysis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423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lysis Rusting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Key Question 12 Exit Slip: Pair and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berEd: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Quiz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Key Question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actants and products in a chemical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F3FF2D15-BDA6-4854-B64E-8ADB80C7C551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scribe what happens during a chemical reac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dentify the 5 signs of a chemical reac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xplain what a chemical equation tells you about a reac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31253" t="52084" r="62501" b="38544"/>
          <a:stretch/>
        </p:blipFill>
        <p:spPr>
          <a:xfrm>
            <a:off x="2919240" y="1600200"/>
            <a:ext cx="325296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53341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be done to speed up or slow down a chemical re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10155" t="12502" r="10155" b="125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38049" t="24167" r="38049" b="56672"/>
          <a:stretch/>
        </p:blipFill>
        <p:spPr>
          <a:xfrm>
            <a:off x="914400" y="304920"/>
            <a:ext cx="7391520" cy="4721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280" y="510552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and type of atoms before a reaction is the same as the number and type of atoms after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es simply unhook, the atoms rearrange and recombine to form new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2:35:41Z</dcterms:created>
  <dc:creator>CCPS</dc:creator>
  <dc:description/>
  <dc:language>en-US</dc:language>
  <cp:lastModifiedBy>CCPS</cp:lastModifiedBy>
  <dcterms:modified xsi:type="dcterms:W3CDTF">2010-02-22T12:36:29Z</dcterms:modified>
  <cp:revision>2</cp:revision>
  <dc:subject/>
  <dc:title>Slide 1</dc:title>
</cp:coreProperties>
</file>